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2A49-2302-4716-9866-663F65D93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58C1-3DDB-4AB6-846B-2D07B51E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C816-3B03-469A-86BD-BBF94AA23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33B4-C4B8-4372-B110-0D67618A6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A62F-4A2B-423E-8DD6-8104E1FF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66A7-361C-4AF3-B442-FE5D923F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8829-591A-4325-9094-528C4AA2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AB7F-43A2-48C9-8044-96D6D720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49A7-F45A-4C25-A658-7D213DDC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78B3-C4D3-455A-89A3-DF870E41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FFD6-37F6-40C2-BA30-E11D366F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864D-0B9D-42EE-A616-52D89874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110F-F1AD-42C2-AAD9-9C919CBB6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0:11:31Z</dcterms:created>
  <dc:creator>class-7th</dc:creator>
  <dc:description/>
  <dc:language>en-US</dc:language>
  <cp:lastModifiedBy>abc</cp:lastModifiedBy>
  <dcterms:modified xsi:type="dcterms:W3CDTF">2010-11-24T20:12:23Z</dcterms:modified>
  <cp:revision>1</cp:revision>
  <dc:subject/>
  <dc:title>A Day in Life</dc:title>
</cp:coreProperties>
</file>